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7" name=""/>
          <p:cNvGrpSpPr/>
          <p:nvPr/>
        </p:nvGrpSpPr>
        <p:grpSpPr>
          <a:xfrm>
            <a:off x="195120" y="201600"/>
            <a:ext cx="5624280" cy="446040"/>
            <a:chOff x="195120" y="201600"/>
            <a:chExt cx="5624280" cy="446040"/>
          </a:xfrm>
        </p:grpSpPr>
        <p:pic>
          <p:nvPicPr>
            <p:cNvPr id="38" name="" descr=""/>
            <p:cNvPicPr/>
            <p:nvPr/>
          </p:nvPicPr>
          <p:blipFill>
            <a:blip r:embed="rId2"/>
            <a:stretch/>
          </p:blipFill>
          <p:spPr>
            <a:xfrm>
              <a:off x="195120" y="201600"/>
              <a:ext cx="1128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" name=""/>
            <p:cNvSpPr/>
            <p:nvPr/>
          </p:nvSpPr>
          <p:spPr>
            <a:xfrm>
              <a:off x="1347840" y="212400"/>
              <a:ext cx="447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SLAT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BA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R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469880" y="838080"/>
            <a:ext cx="7253280" cy="5257800"/>
            <a:chOff x="1469880" y="838080"/>
            <a:chExt cx="7253280" cy="5257800"/>
          </a:xfrm>
        </p:grpSpPr>
        <p:sp>
          <p:nvSpPr>
            <p:cNvPr id="42" name=""/>
            <p:cNvSpPr/>
            <p:nvPr/>
          </p:nvSpPr>
          <p:spPr>
            <a:xfrm>
              <a:off x="1469880" y="838080"/>
              <a:ext cx="7253280" cy="525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69880" y="838080"/>
              <a:ext cx="7253280" cy="38124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01000" y="838080"/>
              <a:ext cx="170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erbal Ph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24560" y="83808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89200" y="1477800"/>
            <a:ext cx="4108320" cy="48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71360" y="14889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96000" y="14968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12880" y="1566720"/>
            <a:ext cx="520920" cy="32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84720" y="1549440"/>
            <a:ext cx="2660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82280" y="1566720"/>
            <a:ext cx="448920" cy="32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50000" y="1582560"/>
            <a:ext cx="244440" cy="32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38960" y="1512720"/>
            <a:ext cx="1024920" cy="40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2760" y="1517760"/>
            <a:ext cx="477720" cy="40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89200" y="2085840"/>
            <a:ext cx="4108320" cy="48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98720" y="210816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ht more than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39920" y="211788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728800" y="2111400"/>
            <a:ext cx="1524240" cy="459720"/>
            <a:chOff x="2728800" y="2111400"/>
            <a:chExt cx="1524240" cy="459720"/>
          </a:xfrm>
        </p:grpSpPr>
        <p:sp>
          <p:nvSpPr>
            <p:cNvPr id="59" name=""/>
            <p:cNvSpPr/>
            <p:nvPr/>
          </p:nvSpPr>
          <p:spPr>
            <a:xfrm>
              <a:off x="2754360" y="2149560"/>
              <a:ext cx="137160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28800" y="21114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more 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962400" y="2119320"/>
            <a:ext cx="354600" cy="459720"/>
            <a:chOff x="6962400" y="2119320"/>
            <a:chExt cx="354600" cy="459720"/>
          </a:xfrm>
        </p:grpSpPr>
        <p:sp>
          <p:nvSpPr>
            <p:cNvPr id="62" name=""/>
            <p:cNvSpPr/>
            <p:nvPr/>
          </p:nvSpPr>
          <p:spPr>
            <a:xfrm>
              <a:off x="7020000" y="2254320"/>
              <a:ext cx="22860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962400" y="2119320"/>
              <a:ext cx="354600" cy="459720"/>
              <a:chOff x="6962400" y="2119320"/>
              <a:chExt cx="354600" cy="459720"/>
            </a:xfrm>
          </p:grpSpPr>
          <p:sp>
            <p:nvSpPr>
              <p:cNvPr id="64" name=""/>
              <p:cNvSpPr/>
              <p:nvPr/>
            </p:nvSpPr>
            <p:spPr>
              <a:xfrm>
                <a:off x="7024680" y="2259000"/>
                <a:ext cx="22824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962400" y="2119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e000d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1789200" y="2695680"/>
            <a:ext cx="4108320" cy="48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17440" y="269568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plus 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8960" y="27176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23880" y="2692440"/>
            <a:ext cx="689760" cy="459720"/>
            <a:chOff x="3323880" y="2692440"/>
            <a:chExt cx="689760" cy="459720"/>
          </a:xfrm>
        </p:grpSpPr>
        <p:sp>
          <p:nvSpPr>
            <p:cNvPr id="70" name=""/>
            <p:cNvSpPr/>
            <p:nvPr/>
          </p:nvSpPr>
          <p:spPr>
            <a:xfrm>
              <a:off x="3338280" y="2772000"/>
              <a:ext cx="634680" cy="35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23880" y="26924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949440" y="2717640"/>
            <a:ext cx="354600" cy="459720"/>
            <a:chOff x="6949440" y="2717640"/>
            <a:chExt cx="354600" cy="459720"/>
          </a:xfrm>
        </p:grpSpPr>
        <p:sp>
          <p:nvSpPr>
            <p:cNvPr id="73" name=""/>
            <p:cNvSpPr/>
            <p:nvPr/>
          </p:nvSpPr>
          <p:spPr>
            <a:xfrm>
              <a:off x="7012080" y="2857320"/>
              <a:ext cx="22860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49440" y="271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789200" y="3340080"/>
            <a:ext cx="4108320" cy="48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95480" y="333072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increased by s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24440" y="333540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946560" y="3332160"/>
            <a:ext cx="354600" cy="459720"/>
            <a:chOff x="6946560" y="3332160"/>
            <a:chExt cx="354600" cy="459720"/>
          </a:xfrm>
        </p:grpSpPr>
        <p:sp>
          <p:nvSpPr>
            <p:cNvPr id="79" name=""/>
            <p:cNvSpPr/>
            <p:nvPr/>
          </p:nvSpPr>
          <p:spPr>
            <a:xfrm>
              <a:off x="7008840" y="3471840"/>
              <a:ext cx="22860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46560" y="3332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312720" y="3333600"/>
            <a:ext cx="1334520" cy="461160"/>
            <a:chOff x="3312720" y="3333600"/>
            <a:chExt cx="1334520" cy="461160"/>
          </a:xfrm>
        </p:grpSpPr>
        <p:sp>
          <p:nvSpPr>
            <p:cNvPr id="82" name=""/>
            <p:cNvSpPr/>
            <p:nvPr/>
          </p:nvSpPr>
          <p:spPr>
            <a:xfrm>
              <a:off x="3346200" y="3333600"/>
              <a:ext cx="12193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12720" y="333504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789200" y="3970440"/>
            <a:ext cx="4108320" cy="48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98360" y="399564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decreased by 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21920" y="3987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975720" y="3987720"/>
            <a:ext cx="333000" cy="459720"/>
            <a:chOff x="6975720" y="3987720"/>
            <a:chExt cx="333000" cy="459720"/>
          </a:xfrm>
        </p:grpSpPr>
        <p:sp>
          <p:nvSpPr>
            <p:cNvPr id="88" name=""/>
            <p:cNvSpPr/>
            <p:nvPr/>
          </p:nvSpPr>
          <p:spPr>
            <a:xfrm>
              <a:off x="7002360" y="4127400"/>
              <a:ext cx="22860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75720" y="398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95800" y="3987720"/>
            <a:ext cx="1384560" cy="461160"/>
            <a:chOff x="3295800" y="3987720"/>
            <a:chExt cx="1384560" cy="461160"/>
          </a:xfrm>
        </p:grpSpPr>
        <p:sp>
          <p:nvSpPr>
            <p:cNvPr id="91" name=""/>
            <p:cNvSpPr/>
            <p:nvPr/>
          </p:nvSpPr>
          <p:spPr>
            <a:xfrm>
              <a:off x="3363840" y="3987720"/>
              <a:ext cx="12189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95800" y="398916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decrea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789200" y="4659480"/>
            <a:ext cx="4108320" cy="48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71560" y="5311800"/>
            <a:ext cx="4108680" cy="48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98000" y="466416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times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7560" y="53290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 divided by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6760" y="466416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967440" y="5218200"/>
            <a:ext cx="344520" cy="725760"/>
            <a:chOff x="6967440" y="5218200"/>
            <a:chExt cx="344520" cy="725760"/>
          </a:xfrm>
        </p:grpSpPr>
        <p:sp>
          <p:nvSpPr>
            <p:cNvPr id="99" name=""/>
            <p:cNvSpPr/>
            <p:nvPr/>
          </p:nvSpPr>
          <p:spPr>
            <a:xfrm>
              <a:off x="6969240" y="5218200"/>
              <a:ext cx="34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05600" y="5591160"/>
              <a:ext cx="2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67440" y="5514840"/>
              <a:ext cx="30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881760" y="5540400"/>
            <a:ext cx="495000" cy="101520"/>
            <a:chOff x="6881760" y="5540400"/>
            <a:chExt cx="495000" cy="101520"/>
          </a:xfrm>
        </p:grpSpPr>
        <p:sp>
          <p:nvSpPr>
            <p:cNvPr id="103" name=""/>
            <p:cNvSpPr/>
            <p:nvPr/>
          </p:nvSpPr>
          <p:spPr>
            <a:xfrm>
              <a:off x="6881760" y="5540400"/>
              <a:ext cx="4950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05600" y="5587200"/>
              <a:ext cx="24696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53840" y="4664160"/>
            <a:ext cx="843840" cy="461160"/>
            <a:chOff x="2553840" y="4664160"/>
            <a:chExt cx="843840" cy="461160"/>
          </a:xfrm>
        </p:grpSpPr>
        <p:sp>
          <p:nvSpPr>
            <p:cNvPr id="106" name=""/>
            <p:cNvSpPr/>
            <p:nvPr/>
          </p:nvSpPr>
          <p:spPr>
            <a:xfrm>
              <a:off x="2593800" y="4664160"/>
              <a:ext cx="71748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53840" y="46656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ti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813040" y="5332320"/>
            <a:ext cx="1096560" cy="461520"/>
            <a:chOff x="2813040" y="5332320"/>
            <a:chExt cx="1096560" cy="461520"/>
          </a:xfrm>
        </p:grpSpPr>
        <p:sp>
          <p:nvSpPr>
            <p:cNvPr id="109" name=""/>
            <p:cNvSpPr/>
            <p:nvPr/>
          </p:nvSpPr>
          <p:spPr>
            <a:xfrm>
              <a:off x="2852640" y="5332320"/>
              <a:ext cx="9763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13040" y="53341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divi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504120" y="4719600"/>
            <a:ext cx="298440" cy="398880"/>
            <a:chOff x="6504120" y="4719600"/>
            <a:chExt cx="298440" cy="398880"/>
          </a:xfrm>
        </p:grpSpPr>
        <p:sp>
          <p:nvSpPr>
            <p:cNvPr id="112" name=""/>
            <p:cNvSpPr/>
            <p:nvPr/>
          </p:nvSpPr>
          <p:spPr>
            <a:xfrm>
              <a:off x="6533640" y="4795920"/>
              <a:ext cx="199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04120" y="471960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000d"/>
                  </a:solidFill>
                  <a:latin typeface="Times New Roman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758960" y="1447920"/>
            <a:ext cx="4228920" cy="558720"/>
            <a:chOff x="1758960" y="1447920"/>
            <a:chExt cx="4228920" cy="558720"/>
          </a:xfrm>
        </p:grpSpPr>
        <p:sp>
          <p:nvSpPr>
            <p:cNvPr id="115" name=""/>
            <p:cNvSpPr/>
            <p:nvPr/>
          </p:nvSpPr>
          <p:spPr>
            <a:xfrm>
              <a:off x="1758960" y="1447920"/>
              <a:ext cx="422892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73160" y="1486080"/>
              <a:ext cx="3740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711840" y="1501920"/>
            <a:ext cx="93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043000" y="2163600"/>
            <a:ext cx="776160" cy="380880"/>
            <a:chOff x="2043000" y="2163600"/>
            <a:chExt cx="776160" cy="380880"/>
          </a:xfrm>
        </p:grpSpPr>
        <p:sp>
          <p:nvSpPr>
            <p:cNvPr id="119" name=""/>
            <p:cNvSpPr/>
            <p:nvPr/>
          </p:nvSpPr>
          <p:spPr>
            <a:xfrm>
              <a:off x="2043000" y="2163600"/>
              <a:ext cx="77616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26880" y="2192040"/>
              <a:ext cx="608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02000" y="2163600"/>
            <a:ext cx="993600" cy="347760"/>
            <a:chOff x="4302000" y="2163600"/>
            <a:chExt cx="993600" cy="347760"/>
          </a:xfrm>
        </p:grpSpPr>
        <p:sp>
          <p:nvSpPr>
            <p:cNvPr id="122" name=""/>
            <p:cNvSpPr/>
            <p:nvPr/>
          </p:nvSpPr>
          <p:spPr>
            <a:xfrm>
              <a:off x="4302000" y="216360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31880" y="2181240"/>
              <a:ext cx="922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755720" y="2073240"/>
            <a:ext cx="4229280" cy="558720"/>
            <a:chOff x="1755720" y="2073240"/>
            <a:chExt cx="4229280" cy="558720"/>
          </a:xfrm>
        </p:grpSpPr>
        <p:sp>
          <p:nvSpPr>
            <p:cNvPr id="125" name=""/>
            <p:cNvSpPr/>
            <p:nvPr/>
          </p:nvSpPr>
          <p:spPr>
            <a:xfrm>
              <a:off x="1755720" y="2073240"/>
              <a:ext cx="422928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01600" y="2102040"/>
              <a:ext cx="33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ight more than a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43440" y="2759040"/>
            <a:ext cx="547560" cy="338040"/>
            <a:chOff x="3943440" y="2759040"/>
            <a:chExt cx="547560" cy="338040"/>
          </a:xfrm>
        </p:grpSpPr>
        <p:sp>
          <p:nvSpPr>
            <p:cNvPr id="128" name=""/>
            <p:cNvSpPr/>
            <p:nvPr/>
          </p:nvSpPr>
          <p:spPr>
            <a:xfrm>
              <a:off x="3943440" y="2759040"/>
              <a:ext cx="547560" cy="33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63960" y="2778120"/>
              <a:ext cx="509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f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370240" y="2754360"/>
            <a:ext cx="993600" cy="347760"/>
            <a:chOff x="2370240" y="2754360"/>
            <a:chExt cx="993600" cy="347760"/>
          </a:xfrm>
        </p:grpSpPr>
        <p:sp>
          <p:nvSpPr>
            <p:cNvPr id="131" name=""/>
            <p:cNvSpPr/>
            <p:nvPr/>
          </p:nvSpPr>
          <p:spPr>
            <a:xfrm>
              <a:off x="2370240" y="275436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00480" y="2771640"/>
              <a:ext cx="92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765440" y="2671920"/>
            <a:ext cx="4228920" cy="558720"/>
            <a:chOff x="1765440" y="2671920"/>
            <a:chExt cx="4228920" cy="558720"/>
          </a:xfrm>
        </p:grpSpPr>
        <p:sp>
          <p:nvSpPr>
            <p:cNvPr id="134" name=""/>
            <p:cNvSpPr/>
            <p:nvPr/>
          </p:nvSpPr>
          <p:spPr>
            <a:xfrm>
              <a:off x="1765440" y="2671920"/>
              <a:ext cx="422892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13480" y="2700720"/>
              <a:ext cx="254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number plus f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952880" y="3417840"/>
            <a:ext cx="774720" cy="343080"/>
            <a:chOff x="4952880" y="3417840"/>
            <a:chExt cx="774720" cy="343080"/>
          </a:xfrm>
        </p:grpSpPr>
        <p:sp>
          <p:nvSpPr>
            <p:cNvPr id="137" name=""/>
            <p:cNvSpPr/>
            <p:nvPr/>
          </p:nvSpPr>
          <p:spPr>
            <a:xfrm>
              <a:off x="4952880" y="3433680"/>
              <a:ext cx="774720" cy="3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6880" y="3417840"/>
              <a:ext cx="695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se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360520" y="3394080"/>
            <a:ext cx="993600" cy="347760"/>
            <a:chOff x="2360520" y="3394080"/>
            <a:chExt cx="993600" cy="347760"/>
          </a:xfrm>
        </p:grpSpPr>
        <p:sp>
          <p:nvSpPr>
            <p:cNvPr id="140" name=""/>
            <p:cNvSpPr/>
            <p:nvPr/>
          </p:nvSpPr>
          <p:spPr>
            <a:xfrm>
              <a:off x="2360520" y="339408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90760" y="3411360"/>
              <a:ext cx="92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52480" y="3276720"/>
            <a:ext cx="4229280" cy="591840"/>
            <a:chOff x="1752480" y="3276720"/>
            <a:chExt cx="4229280" cy="591840"/>
          </a:xfrm>
        </p:grpSpPr>
        <p:sp>
          <p:nvSpPr>
            <p:cNvPr id="143" name=""/>
            <p:cNvSpPr/>
            <p:nvPr/>
          </p:nvSpPr>
          <p:spPr>
            <a:xfrm>
              <a:off x="1752480" y="3276720"/>
              <a:ext cx="42292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04840" y="3327120"/>
              <a:ext cx="37911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number increased by se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998960" y="4064040"/>
            <a:ext cx="611280" cy="326880"/>
            <a:chOff x="4998960" y="4064040"/>
            <a:chExt cx="611280" cy="326880"/>
          </a:xfrm>
        </p:grpSpPr>
        <p:sp>
          <p:nvSpPr>
            <p:cNvPr id="146" name=""/>
            <p:cNvSpPr/>
            <p:nvPr/>
          </p:nvSpPr>
          <p:spPr>
            <a:xfrm>
              <a:off x="4998960" y="4064040"/>
              <a:ext cx="61128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9840" y="4068720"/>
              <a:ext cx="576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40000" y="4054320"/>
            <a:ext cx="993600" cy="347760"/>
            <a:chOff x="2340000" y="4054320"/>
            <a:chExt cx="993600" cy="347760"/>
          </a:xfrm>
        </p:grpSpPr>
        <p:sp>
          <p:nvSpPr>
            <p:cNvPr id="149" name=""/>
            <p:cNvSpPr/>
            <p:nvPr/>
          </p:nvSpPr>
          <p:spPr>
            <a:xfrm>
              <a:off x="2340000" y="405432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81400" y="4065480"/>
              <a:ext cx="92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738440" y="3962520"/>
            <a:ext cx="4228920" cy="558720"/>
            <a:chOff x="1738440" y="3962520"/>
            <a:chExt cx="4228920" cy="558720"/>
          </a:xfrm>
        </p:grpSpPr>
        <p:sp>
          <p:nvSpPr>
            <p:cNvPr id="152" name=""/>
            <p:cNvSpPr/>
            <p:nvPr/>
          </p:nvSpPr>
          <p:spPr>
            <a:xfrm>
              <a:off x="1738440" y="3962520"/>
              <a:ext cx="422892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5400" y="3991320"/>
              <a:ext cx="36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number decreased by 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014560" y="4726080"/>
            <a:ext cx="598320" cy="326880"/>
            <a:chOff x="2014560" y="4726080"/>
            <a:chExt cx="598320" cy="326880"/>
          </a:xfrm>
        </p:grpSpPr>
        <p:sp>
          <p:nvSpPr>
            <p:cNvPr id="155" name=""/>
            <p:cNvSpPr/>
            <p:nvPr/>
          </p:nvSpPr>
          <p:spPr>
            <a:xfrm>
              <a:off x="2014560" y="4726080"/>
              <a:ext cx="57924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36880" y="4741920"/>
              <a:ext cx="576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544920" y="4727520"/>
            <a:ext cx="993600" cy="347760"/>
            <a:chOff x="3544920" y="4727520"/>
            <a:chExt cx="993600" cy="347760"/>
          </a:xfrm>
        </p:grpSpPr>
        <p:sp>
          <p:nvSpPr>
            <p:cNvPr id="158" name=""/>
            <p:cNvSpPr/>
            <p:nvPr/>
          </p:nvSpPr>
          <p:spPr>
            <a:xfrm>
              <a:off x="3544920" y="472752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4520" y="4740120"/>
              <a:ext cx="92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55720" y="4633920"/>
            <a:ext cx="4229280" cy="558720"/>
            <a:chOff x="1755720" y="4633920"/>
            <a:chExt cx="4229280" cy="558720"/>
          </a:xfrm>
        </p:grpSpPr>
        <p:sp>
          <p:nvSpPr>
            <p:cNvPr id="161" name=""/>
            <p:cNvSpPr/>
            <p:nvPr/>
          </p:nvSpPr>
          <p:spPr>
            <a:xfrm>
              <a:off x="1755720" y="4633920"/>
              <a:ext cx="422928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02680" y="4662720"/>
              <a:ext cx="26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n times a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238880" y="2225520"/>
            <a:ext cx="24948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72320" y="2224080"/>
            <a:ext cx="2491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8480" y="2116080"/>
            <a:ext cx="794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07120" y="4768920"/>
            <a:ext cx="3049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1720" y="4662360"/>
            <a:ext cx="108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10400" y="4765680"/>
            <a:ext cx="249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42120" y="2822400"/>
            <a:ext cx="2491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56480" y="2822400"/>
            <a:ext cx="2491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7160" y="2716200"/>
            <a:ext cx="82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3443400"/>
            <a:ext cx="249480" cy="25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9080" y="3441600"/>
            <a:ext cx="2491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23000" y="3332160"/>
            <a:ext cx="81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57960" y="4095720"/>
            <a:ext cx="24948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4920" y="4094280"/>
            <a:ext cx="249120" cy="25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29480" y="3984480"/>
            <a:ext cx="90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40520" y="4753080"/>
            <a:ext cx="412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473960" y="4675680"/>
            <a:ext cx="928800" cy="459720"/>
            <a:chOff x="7473960" y="4675680"/>
            <a:chExt cx="928800" cy="459720"/>
          </a:xfrm>
        </p:grpSpPr>
        <p:sp>
          <p:nvSpPr>
            <p:cNvPr id="180" name=""/>
            <p:cNvSpPr/>
            <p:nvPr/>
          </p:nvSpPr>
          <p:spPr>
            <a:xfrm>
              <a:off x="7473960" y="4675680"/>
              <a:ext cx="9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61080" y="4675680"/>
              <a:ext cx="7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566120" y="467100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75400" y="4667760"/>
            <a:ext cx="9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69320" y="4778280"/>
            <a:ext cx="249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7400" y="4613400"/>
            <a:ext cx="60156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69320" y="4767120"/>
            <a:ext cx="249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10480" y="4770360"/>
            <a:ext cx="3049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12200" y="4599000"/>
            <a:ext cx="657000" cy="60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016000" y="5405400"/>
            <a:ext cx="862200" cy="331920"/>
            <a:chOff x="2016000" y="5405400"/>
            <a:chExt cx="862200" cy="331920"/>
          </a:xfrm>
        </p:grpSpPr>
        <p:sp>
          <p:nvSpPr>
            <p:cNvPr id="190" name=""/>
            <p:cNvSpPr/>
            <p:nvPr/>
          </p:nvSpPr>
          <p:spPr>
            <a:xfrm>
              <a:off x="2016000" y="5410080"/>
              <a:ext cx="862200" cy="3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93760" y="5405400"/>
              <a:ext cx="7178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Se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018200" y="5332320"/>
            <a:ext cx="2494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02360" y="5657760"/>
            <a:ext cx="249480" cy="1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000d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424400" y="5400720"/>
            <a:ext cx="1058760" cy="347760"/>
            <a:chOff x="4424400" y="5400720"/>
            <a:chExt cx="1058760" cy="347760"/>
          </a:xfrm>
        </p:grpSpPr>
        <p:sp>
          <p:nvSpPr>
            <p:cNvPr id="195" name=""/>
            <p:cNvSpPr/>
            <p:nvPr/>
          </p:nvSpPr>
          <p:spPr>
            <a:xfrm>
              <a:off x="4424400" y="5400720"/>
              <a:ext cx="105876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65800" y="5411880"/>
              <a:ext cx="954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7764480" y="6380280"/>
            <a:ext cx="985680" cy="385560"/>
          </a:xfrm>
          <a:custGeom>
            <a:avLst/>
            <a:gdLst>
              <a:gd name="textAreaLeft" fmla="*/ 24840 w 985680"/>
              <a:gd name="textAreaRight" fmla="*/ 960840 w 98568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55189" h="21600">
                <a:moveTo>
                  <a:pt x="0" y="0"/>
                </a:moveTo>
                <a:lnTo>
                  <a:pt x="55189" y="0"/>
                </a:lnTo>
                <a:lnTo>
                  <a:pt x="55189" y="21600"/>
                </a:lnTo>
                <a:lnTo>
                  <a:pt x="0" y="21600"/>
                </a:lnTo>
                <a:close/>
              </a:path>
              <a:path fill="lightenLess" w="55189" h="21600">
                <a:moveTo>
                  <a:pt x="0" y="0"/>
                </a:moveTo>
                <a:lnTo>
                  <a:pt x="55189" y="0"/>
                </a:lnTo>
                <a:lnTo>
                  <a:pt x="53789" y="1400"/>
                </a:lnTo>
                <a:lnTo>
                  <a:pt x="1400" y="1400"/>
                </a:lnTo>
                <a:close/>
              </a:path>
              <a:path fill="darken" w="55189" h="21600">
                <a:moveTo>
                  <a:pt x="55189" y="0"/>
                </a:moveTo>
                <a:lnTo>
                  <a:pt x="55189" y="21600"/>
                </a:lnTo>
                <a:lnTo>
                  <a:pt x="53789" y="20200"/>
                </a:lnTo>
                <a:lnTo>
                  <a:pt x="53789" y="1400"/>
                </a:lnTo>
                <a:close/>
              </a:path>
              <a:path fill="darkenLess" w="55189" h="21600">
                <a:moveTo>
                  <a:pt x="55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89" y="20200"/>
                </a:lnTo>
                <a:close/>
              </a:path>
              <a:path fill="lighten" w="55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4476600" y="1981080"/>
            <a:ext cx="4353120" cy="2194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0200" y="838080"/>
            <a:ext cx="6781680" cy="914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838080"/>
            <a:ext cx="6933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52280" y="196920"/>
            <a:ext cx="3871440" cy="460440"/>
            <a:chOff x="152280" y="196920"/>
            <a:chExt cx="3871440" cy="460440"/>
          </a:xfrm>
        </p:grpSpPr>
        <p:sp>
          <p:nvSpPr>
            <p:cNvPr id="507" name=""/>
            <p:cNvSpPr/>
            <p:nvPr/>
          </p:nvSpPr>
          <p:spPr>
            <a:xfrm>
              <a:off x="1529640" y="239760"/>
              <a:ext cx="249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a Verbal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582560" y="608040"/>
            <a:ext cx="72565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59200" y="2120760"/>
            <a:ext cx="3932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ot reasonable for the pilot to fly at 300 miles per hour, because the jet could stall. The pilot should take some other action, such as circling in a holding pattern, to use some of th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70200" y="94932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t reasonable for the pilot to fly directly to Chicago at 300 miles per hour or must the pilot take some other ac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35400" y="90792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3"/>
          <a:srcRect l="0" t="27070" r="0" b="0"/>
          <a:stretch/>
        </p:blipFill>
        <p:spPr>
          <a:xfrm>
            <a:off x="438120" y="1981080"/>
            <a:ext cx="3438720" cy="38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47840" y="214200"/>
            <a:ext cx="341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B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990720"/>
            <a:ext cx="72388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1430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thematics there is a difference between a phrase and a sentence. Phrases translate into expressions; sentences translate into equations or inequa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225960"/>
            <a:ext cx="1905120" cy="3988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b3fa3"/>
                </a:solidFill>
                <a:latin typeface="Arial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7560" y="3262320"/>
            <a:ext cx="2514600" cy="380880"/>
          </a:xfrm>
          <a:prstGeom prst="rightArrow">
            <a:avLst>
              <a:gd name="adj1" fmla="val 44167"/>
              <a:gd name="adj2" fmla="val 39032"/>
            </a:avLst>
          </a:prstGeom>
          <a:gradFill rotWithShape="0">
            <a:gsLst>
              <a:gs pos="0">
                <a:srgbClr val="ffcc00"/>
              </a:gs>
              <a:gs pos="100000">
                <a:srgbClr val="fee5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3200" y="3224160"/>
            <a:ext cx="1171440" cy="398880"/>
          </a:xfrm>
          <a:prstGeom prst="rect">
            <a:avLst/>
          </a:prstGeom>
          <a:solidFill>
            <a:srgbClr val="1b3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4057560"/>
            <a:ext cx="3429000" cy="3988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3fa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b3fa3"/>
                </a:solidFill>
                <a:latin typeface="Arial"/>
              </a:rPr>
              <a:t>Equations or Inequ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87560" y="4084560"/>
            <a:ext cx="2514600" cy="381240"/>
          </a:xfrm>
          <a:prstGeom prst="rightArrow">
            <a:avLst>
              <a:gd name="adj1" fmla="val 44167"/>
              <a:gd name="adj2" fmla="val 38995"/>
            </a:avLst>
          </a:prstGeom>
          <a:gradFill rotWithShape="0">
            <a:gsLst>
              <a:gs pos="0">
                <a:srgbClr val="ffcc00"/>
              </a:gs>
              <a:gs pos="100000">
                <a:srgbClr val="fee5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840" y="4062240"/>
            <a:ext cx="1454760" cy="398880"/>
          </a:xfrm>
          <a:prstGeom prst="rect">
            <a:avLst/>
          </a:prstGeom>
          <a:solidFill>
            <a:srgbClr val="1b3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47840" y="212760"/>
            <a:ext cx="341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B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990720"/>
            <a:ext cx="72532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990720"/>
            <a:ext cx="72532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6400" y="990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600" y="9907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98400" y="1447920"/>
            <a:ext cx="3740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98040" y="1981080"/>
            <a:ext cx="4021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9440" y="1447920"/>
            <a:ext cx="811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09600" y="1981080"/>
            <a:ext cx="1061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47720" y="1982880"/>
            <a:ext cx="384840" cy="459720"/>
            <a:chOff x="5247720" y="1982880"/>
            <a:chExt cx="384840" cy="459720"/>
          </a:xfrm>
        </p:grpSpPr>
        <p:sp>
          <p:nvSpPr>
            <p:cNvPr id="223" name=""/>
            <p:cNvSpPr/>
            <p:nvPr/>
          </p:nvSpPr>
          <p:spPr>
            <a:xfrm>
              <a:off x="5313240" y="2100240"/>
              <a:ext cx="266760" cy="24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47720" y="1982880"/>
              <a:ext cx="38484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338600" y="1981080"/>
            <a:ext cx="354600" cy="459720"/>
            <a:chOff x="7338600" y="1981080"/>
            <a:chExt cx="354600" cy="459720"/>
          </a:xfrm>
        </p:grpSpPr>
        <p:sp>
          <p:nvSpPr>
            <p:cNvPr id="226" name=""/>
            <p:cNvSpPr/>
            <p:nvPr/>
          </p:nvSpPr>
          <p:spPr>
            <a:xfrm>
              <a:off x="7378920" y="2136600"/>
              <a:ext cx="288720" cy="212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38600" y="1981080"/>
              <a:ext cx="35460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47920" y="3048120"/>
            <a:ext cx="7253280" cy="1066680"/>
            <a:chOff x="1447920" y="3048120"/>
            <a:chExt cx="7253280" cy="1066680"/>
          </a:xfrm>
        </p:grpSpPr>
        <p:sp>
          <p:nvSpPr>
            <p:cNvPr id="229" name=""/>
            <p:cNvSpPr/>
            <p:nvPr/>
          </p:nvSpPr>
          <p:spPr>
            <a:xfrm>
              <a:off x="1447920" y="3048120"/>
              <a:ext cx="725328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7920" y="3048120"/>
              <a:ext cx="7253280" cy="35568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2360" y="304812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68240" y="304812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596600" y="3543480"/>
            <a:ext cx="4987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 is twe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5040" y="3543480"/>
            <a:ext cx="1518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234040" y="3543480"/>
            <a:ext cx="1351080" cy="459720"/>
            <a:chOff x="5234040" y="3543480"/>
            <a:chExt cx="1351080" cy="459720"/>
          </a:xfrm>
        </p:grpSpPr>
        <p:sp>
          <p:nvSpPr>
            <p:cNvPr id="236" name=""/>
            <p:cNvSpPr/>
            <p:nvPr/>
          </p:nvSpPr>
          <p:spPr>
            <a:xfrm>
              <a:off x="5284800" y="3619800"/>
              <a:ext cx="12445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34040" y="3543480"/>
              <a:ext cx="135108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is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58280" y="3544920"/>
            <a:ext cx="761760" cy="459720"/>
            <a:chOff x="7658280" y="3544920"/>
            <a:chExt cx="761760" cy="459720"/>
          </a:xfrm>
        </p:grpSpPr>
        <p:sp>
          <p:nvSpPr>
            <p:cNvPr id="239" name=""/>
            <p:cNvSpPr/>
            <p:nvPr/>
          </p:nvSpPr>
          <p:spPr>
            <a:xfrm>
              <a:off x="7675560" y="3578400"/>
              <a:ext cx="71136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58280" y="3544920"/>
              <a:ext cx="76176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447920" y="4572000"/>
            <a:ext cx="7253280" cy="1523880"/>
            <a:chOff x="1447920" y="4572000"/>
            <a:chExt cx="7253280" cy="1523880"/>
          </a:xfrm>
        </p:grpSpPr>
        <p:sp>
          <p:nvSpPr>
            <p:cNvPr id="242" name=""/>
            <p:cNvSpPr/>
            <p:nvPr/>
          </p:nvSpPr>
          <p:spPr>
            <a:xfrm>
              <a:off x="1447920" y="4572000"/>
              <a:ext cx="725328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47920" y="4572000"/>
              <a:ext cx="7253280" cy="38088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02360" y="45720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68240" y="45720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e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600200" y="5105520"/>
            <a:ext cx="3886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 is less than twe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5400" y="5105520"/>
            <a:ext cx="1518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598400" y="5486400"/>
            <a:ext cx="2487960" cy="459720"/>
            <a:chOff x="1598400" y="5486400"/>
            <a:chExt cx="2487960" cy="459720"/>
          </a:xfrm>
        </p:grpSpPr>
        <p:sp>
          <p:nvSpPr>
            <p:cNvPr id="249" name=""/>
            <p:cNvSpPr/>
            <p:nvPr/>
          </p:nvSpPr>
          <p:spPr>
            <a:xfrm>
              <a:off x="1676160" y="5580000"/>
              <a:ext cx="23443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98400" y="5486400"/>
              <a:ext cx="248796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is less than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637400" y="5105520"/>
            <a:ext cx="761760" cy="459720"/>
            <a:chOff x="7637400" y="5105520"/>
            <a:chExt cx="761760" cy="459720"/>
          </a:xfrm>
        </p:grpSpPr>
        <p:sp>
          <p:nvSpPr>
            <p:cNvPr id="252" name=""/>
            <p:cNvSpPr/>
            <p:nvPr/>
          </p:nvSpPr>
          <p:spPr>
            <a:xfrm>
              <a:off x="7654680" y="5139000"/>
              <a:ext cx="71136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37400" y="5105520"/>
              <a:ext cx="76176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&lt;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598400" y="1447920"/>
            <a:ext cx="6070680" cy="459720"/>
            <a:chOff x="1598400" y="1447920"/>
            <a:chExt cx="6070680" cy="459720"/>
          </a:xfrm>
        </p:grpSpPr>
        <p:sp>
          <p:nvSpPr>
            <p:cNvPr id="255" name=""/>
            <p:cNvSpPr/>
            <p:nvPr/>
          </p:nvSpPr>
          <p:spPr>
            <a:xfrm>
              <a:off x="1598400" y="1447920"/>
              <a:ext cx="3740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7640" y="1447920"/>
              <a:ext cx="811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598760" y="1982880"/>
            <a:ext cx="6249960" cy="459720"/>
            <a:chOff x="1598760" y="1982880"/>
            <a:chExt cx="6249960" cy="459720"/>
          </a:xfrm>
        </p:grpSpPr>
        <p:sp>
          <p:nvSpPr>
            <p:cNvPr id="258" name=""/>
            <p:cNvSpPr/>
            <p:nvPr/>
          </p:nvSpPr>
          <p:spPr>
            <a:xfrm>
              <a:off x="1598760" y="1982880"/>
              <a:ext cx="4116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08880" y="1982880"/>
              <a:ext cx="1239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598760" y="3541680"/>
            <a:ext cx="6886800" cy="459720"/>
            <a:chOff x="1598760" y="3541680"/>
            <a:chExt cx="6886800" cy="459720"/>
          </a:xfrm>
        </p:grpSpPr>
        <p:sp>
          <p:nvSpPr>
            <p:cNvPr id="261" name=""/>
            <p:cNvSpPr/>
            <p:nvPr/>
          </p:nvSpPr>
          <p:spPr>
            <a:xfrm>
              <a:off x="1598760" y="3541680"/>
              <a:ext cx="5106960" cy="45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 is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66720" y="3541680"/>
              <a:ext cx="1518840" cy="45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19520" y="2819520"/>
            <a:ext cx="4267080" cy="916920"/>
            <a:chOff x="2819520" y="2819520"/>
            <a:chExt cx="4267080" cy="916920"/>
          </a:xfrm>
        </p:grpSpPr>
        <p:sp>
          <p:nvSpPr>
            <p:cNvPr id="264" name=""/>
            <p:cNvSpPr/>
            <p:nvPr/>
          </p:nvSpPr>
          <p:spPr>
            <a:xfrm>
              <a:off x="2819520" y="2819520"/>
              <a:ext cx="4267080" cy="685800"/>
            </a:xfrm>
            <a:prstGeom prst="rect">
              <a:avLst/>
            </a:prstGeom>
            <a:solidFill>
              <a:srgbClr val="cdecff"/>
            </a:solidFill>
            <a:ln w="0">
              <a:noFill/>
            </a:ln>
            <a:effectLst>
              <a:outerShdw dist="53966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2819520"/>
              <a:ext cx="417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this sentence, “</a:t>
              </a:r>
              <a:r>
                <a:rPr b="1" lang="en-US" sz="1800" spc="-1" strike="noStrike">
                  <a:solidFill>
                    <a:srgbClr val="fe000d"/>
                  </a:solidFill>
                  <a:latin typeface="Arial"/>
                </a:rPr>
                <a:t>i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” says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e quantity is equal to one anoth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819520" y="4343400"/>
            <a:ext cx="4267080" cy="685800"/>
            <a:chOff x="2819520" y="4343400"/>
            <a:chExt cx="4267080" cy="685800"/>
          </a:xfrm>
        </p:grpSpPr>
        <p:sp>
          <p:nvSpPr>
            <p:cNvPr id="267" name=""/>
            <p:cNvSpPr/>
            <p:nvPr/>
          </p:nvSpPr>
          <p:spPr>
            <a:xfrm>
              <a:off x="2819520" y="4343400"/>
              <a:ext cx="4267080" cy="685800"/>
            </a:xfrm>
            <a:prstGeom prst="rect">
              <a:avLst/>
            </a:prstGeom>
            <a:solidFill>
              <a:srgbClr val="cdecff"/>
            </a:solidFill>
            <a:ln w="0">
              <a:noFill/>
            </a:ln>
            <a:effectLst>
              <a:outerShdw dist="53966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95480" y="4343400"/>
              <a:ext cx="417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this sentence, the word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e000d"/>
                  </a:solidFill>
                  <a:latin typeface="Arial"/>
                </a:rPr>
                <a:t>is less tha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” indicate an inequalit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598760" y="5105520"/>
            <a:ext cx="6867720" cy="828360"/>
            <a:chOff x="1598760" y="5105520"/>
            <a:chExt cx="6867720" cy="828360"/>
          </a:xfrm>
        </p:grpSpPr>
        <p:sp>
          <p:nvSpPr>
            <p:cNvPr id="270" name=""/>
            <p:cNvSpPr/>
            <p:nvPr/>
          </p:nvSpPr>
          <p:spPr>
            <a:xfrm>
              <a:off x="1598760" y="5108400"/>
              <a:ext cx="3886200" cy="825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 is less than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48000" y="5105520"/>
              <a:ext cx="151848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&lt; 1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251240" y="3532320"/>
            <a:ext cx="4126680" cy="470520"/>
            <a:chOff x="4251240" y="3532320"/>
            <a:chExt cx="4126680" cy="470520"/>
          </a:xfrm>
        </p:grpSpPr>
        <p:sp>
          <p:nvSpPr>
            <p:cNvPr id="273" name=""/>
            <p:cNvSpPr/>
            <p:nvPr/>
          </p:nvSpPr>
          <p:spPr>
            <a:xfrm>
              <a:off x="4251240" y="3543120"/>
              <a:ext cx="2438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ber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35400" y="3532320"/>
              <a:ext cx="1442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00200" y="5105520"/>
            <a:ext cx="6799680" cy="1206360"/>
            <a:chOff x="1600200" y="5105520"/>
            <a:chExt cx="6799680" cy="1206360"/>
          </a:xfrm>
        </p:grpSpPr>
        <p:sp>
          <p:nvSpPr>
            <p:cNvPr id="276" name=""/>
            <p:cNvSpPr/>
            <p:nvPr/>
          </p:nvSpPr>
          <p:spPr>
            <a:xfrm>
              <a:off x="1600200" y="5486400"/>
              <a:ext cx="2554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s less th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57360" y="5105520"/>
              <a:ext cx="1442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43080" y="2131920"/>
            <a:ext cx="5943600" cy="838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990720"/>
            <a:ext cx="7162920" cy="9126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1560" y="860400"/>
            <a:ext cx="752472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43080" y="3486240"/>
            <a:ext cx="58672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9480" y="3368520"/>
            <a:ext cx="609588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47840" y="212760"/>
            <a:ext cx="341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B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33720" y="35035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ree steps to write a mathematic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4120" y="4797360"/>
            <a:ext cx="1858680" cy="611640"/>
          </a:xfrm>
          <a:prstGeom prst="rect">
            <a:avLst/>
          </a:prstGeom>
          <a:solidFill>
            <a:srgbClr val="cd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BAL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02120" y="4799160"/>
            <a:ext cx="1293840" cy="611640"/>
          </a:xfrm>
          <a:prstGeom prst="rect">
            <a:avLst/>
          </a:prstGeom>
          <a:solidFill>
            <a:srgbClr val="cd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IGN LAB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4799160"/>
            <a:ext cx="2438640" cy="611640"/>
          </a:xfrm>
          <a:prstGeom prst="rect">
            <a:avLst/>
          </a:prstGeom>
          <a:solidFill>
            <a:srgbClr val="cd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 AN ALGEBRAIC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33880" y="4995720"/>
            <a:ext cx="652320" cy="228600"/>
          </a:xfrm>
          <a:prstGeom prst="rightArrow">
            <a:avLst>
              <a:gd name="adj1" fmla="val 50000"/>
              <a:gd name="adj2" fmla="val 71339"/>
            </a:avLst>
          </a:prstGeom>
          <a:gradFill rotWithShape="0">
            <a:gsLst>
              <a:gs pos="0">
                <a:srgbClr val="ffcc00"/>
              </a:gs>
              <a:gs pos="100000">
                <a:srgbClr val="fed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02080" y="4998960"/>
            <a:ext cx="649440" cy="228600"/>
          </a:xfrm>
          <a:prstGeom prst="rightArrow">
            <a:avLst>
              <a:gd name="adj1" fmla="val 50000"/>
              <a:gd name="adj2" fmla="val 71024"/>
            </a:avLst>
          </a:prstGeom>
          <a:gradFill rotWithShape="0">
            <a:gsLst>
              <a:gs pos="0">
                <a:srgbClr val="ffcc00"/>
              </a:gs>
              <a:gs pos="100000">
                <a:srgbClr val="fed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00880" y="1447920"/>
            <a:ext cx="129528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19040" y="2548080"/>
            <a:ext cx="289584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62080" y="1292400"/>
            <a:ext cx="7524720" cy="17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19040" y="990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lgebraic expressions, equations, or inequalities that represent real-life situations i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12920" y="2143080"/>
            <a:ext cx="55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, equation, or inequality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hematic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590920" y="2819520"/>
            <a:ext cx="4114800" cy="1904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67000" y="838080"/>
            <a:ext cx="68580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762120"/>
            <a:ext cx="70866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2280" y="196920"/>
            <a:ext cx="4507560" cy="460440"/>
            <a:chOff x="152280" y="196920"/>
            <a:chExt cx="4507560" cy="460440"/>
          </a:xfrm>
        </p:grpSpPr>
        <p:sp>
          <p:nvSpPr>
            <p:cNvPr id="303" name=""/>
            <p:cNvSpPr/>
            <p:nvPr/>
          </p:nvSpPr>
          <p:spPr>
            <a:xfrm>
              <a:off x="1528560" y="239760"/>
              <a:ext cx="31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Algebraic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1582560" y="604800"/>
            <a:ext cx="7256520" cy="46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42960" y="957240"/>
            <a:ext cx="678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nd three friends are having a dim sum lunch at a Chinese restaurant that charges $2 per plate. You order lots of plates.  The waiter gives you a bill for $25.20, which includes tax of $1.20. Use mental math to solve the equation for how many plates your group ord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32688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the problem situation before you begin. For example, notice that tax is added after the total cost of the dim sum plates is figu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7960" y="288612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rcRect l="0" t="4243" r="0" b="6549"/>
          <a:stretch/>
        </p:blipFill>
        <p:spPr>
          <a:xfrm>
            <a:off x="457200" y="4343400"/>
            <a:ext cx="1747800" cy="1600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rcRect l="0" t="8473" r="0" b="6794"/>
          <a:stretch/>
        </p:blipFill>
        <p:spPr>
          <a:xfrm>
            <a:off x="457200" y="281952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7031160" y="4452840"/>
            <a:ext cx="14191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627440" y="5014800"/>
            <a:ext cx="831960" cy="663840"/>
          </a:xfrm>
          <a:prstGeom prst="irregularSeal1">
            <a:avLst/>
          </a:prstGeom>
          <a:gradFill rotWithShape="0">
            <a:gsLst>
              <a:gs pos="0">
                <a:srgbClr val="ffff99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1860120" y="1295280"/>
            <a:ext cx="1064880" cy="1023120"/>
            <a:chOff x="1860120" y="1295280"/>
            <a:chExt cx="1064880" cy="1023120"/>
          </a:xfrm>
        </p:grpSpPr>
        <p:sp>
          <p:nvSpPr>
            <p:cNvPr id="315" name=""/>
            <p:cNvSpPr/>
            <p:nvPr/>
          </p:nvSpPr>
          <p:spPr>
            <a:xfrm rot="5400000">
              <a:off x="2088720" y="1492200"/>
              <a:ext cx="622440" cy="228600"/>
            </a:xfrm>
            <a:prstGeom prst="rightArrow">
              <a:avLst>
                <a:gd name="adj1" fmla="val 33037"/>
                <a:gd name="adj2" fmla="val 462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60120" y="1935000"/>
              <a:ext cx="1064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BE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811160" y="914400"/>
            <a:ext cx="1148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BA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52280" y="196920"/>
            <a:ext cx="4507560" cy="460440"/>
            <a:chOff x="152280" y="196920"/>
            <a:chExt cx="4507560" cy="460440"/>
          </a:xfrm>
        </p:grpSpPr>
        <p:sp>
          <p:nvSpPr>
            <p:cNvPr id="319" name=""/>
            <p:cNvSpPr/>
            <p:nvPr/>
          </p:nvSpPr>
          <p:spPr>
            <a:xfrm>
              <a:off x="1528560" y="239760"/>
              <a:ext cx="31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Algebraic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1582560" y="608040"/>
            <a:ext cx="733284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430800" y="947880"/>
            <a:ext cx="1107360" cy="576000"/>
            <a:chOff x="3430800" y="947880"/>
            <a:chExt cx="1107360" cy="576000"/>
          </a:xfrm>
        </p:grpSpPr>
        <p:sp>
          <p:nvSpPr>
            <p:cNvPr id="323" name=""/>
            <p:cNvSpPr/>
            <p:nvPr/>
          </p:nvSpPr>
          <p:spPr>
            <a:xfrm>
              <a:off x="3443400" y="947880"/>
              <a:ext cx="106668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30800" y="990720"/>
              <a:ext cx="1107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562280" y="103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800600" y="946080"/>
            <a:ext cx="1616040" cy="598680"/>
            <a:chOff x="4800600" y="946080"/>
            <a:chExt cx="1616040" cy="598680"/>
          </a:xfrm>
        </p:grpSpPr>
        <p:sp>
          <p:nvSpPr>
            <p:cNvPr id="327" name=""/>
            <p:cNvSpPr/>
            <p:nvPr/>
          </p:nvSpPr>
          <p:spPr>
            <a:xfrm>
              <a:off x="4915080" y="946080"/>
              <a:ext cx="1371600" cy="598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1004760"/>
              <a:ext cx="16160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pl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63800" y="1033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948360" y="1049400"/>
            <a:ext cx="609840" cy="457200"/>
            <a:chOff x="6948360" y="1049400"/>
            <a:chExt cx="609840" cy="457200"/>
          </a:xfrm>
        </p:grpSpPr>
        <p:sp>
          <p:nvSpPr>
            <p:cNvPr id="331" name=""/>
            <p:cNvSpPr/>
            <p:nvPr/>
          </p:nvSpPr>
          <p:spPr>
            <a:xfrm>
              <a:off x="6948360" y="1049400"/>
              <a:ext cx="6098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59160" y="110952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849080" y="1062000"/>
            <a:ext cx="610560" cy="457200"/>
            <a:chOff x="7849080" y="1062000"/>
            <a:chExt cx="610560" cy="457200"/>
          </a:xfrm>
        </p:grpSpPr>
        <p:sp>
          <p:nvSpPr>
            <p:cNvPr id="334" name=""/>
            <p:cNvSpPr/>
            <p:nvPr/>
          </p:nvSpPr>
          <p:spPr>
            <a:xfrm>
              <a:off x="7850160" y="106200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49080" y="1104840"/>
              <a:ext cx="58464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T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7522920" y="995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41240" y="1927080"/>
            <a:ext cx="202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t per plate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475240" y="1927080"/>
            <a:ext cx="355680" cy="429120"/>
            <a:chOff x="5475240" y="1927080"/>
            <a:chExt cx="355680" cy="429120"/>
          </a:xfrm>
        </p:grpSpPr>
        <p:sp>
          <p:nvSpPr>
            <p:cNvPr id="339" name=""/>
            <p:cNvSpPr/>
            <p:nvPr/>
          </p:nvSpPr>
          <p:spPr>
            <a:xfrm>
              <a:off x="5475240" y="1944720"/>
              <a:ext cx="355680" cy="35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99000" y="19270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467520" y="2384280"/>
            <a:ext cx="241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plates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878440" y="2308320"/>
            <a:ext cx="343080" cy="461880"/>
            <a:chOff x="5878440" y="2308320"/>
            <a:chExt cx="343080" cy="461880"/>
          </a:xfrm>
        </p:grpSpPr>
        <p:sp>
          <p:nvSpPr>
            <p:cNvPr id="343" name=""/>
            <p:cNvSpPr/>
            <p:nvPr/>
          </p:nvSpPr>
          <p:spPr>
            <a:xfrm>
              <a:off x="5878440" y="2363760"/>
              <a:ext cx="34308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89600" y="23083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466800" y="2855880"/>
            <a:ext cx="214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bill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624640" y="2876400"/>
            <a:ext cx="847080" cy="429120"/>
            <a:chOff x="5624640" y="2876400"/>
            <a:chExt cx="847080" cy="429120"/>
          </a:xfrm>
        </p:grpSpPr>
        <p:sp>
          <p:nvSpPr>
            <p:cNvPr id="347" name=""/>
            <p:cNvSpPr/>
            <p:nvPr/>
          </p:nvSpPr>
          <p:spPr>
            <a:xfrm>
              <a:off x="5624640" y="289404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59920" y="2876400"/>
              <a:ext cx="811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5.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483000" y="3330720"/>
            <a:ext cx="85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x =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385520" y="3335400"/>
            <a:ext cx="671400" cy="437040"/>
            <a:chOff x="4385520" y="3335400"/>
            <a:chExt cx="671400" cy="437040"/>
          </a:xfrm>
        </p:grpSpPr>
        <p:sp>
          <p:nvSpPr>
            <p:cNvPr id="351" name=""/>
            <p:cNvSpPr/>
            <p:nvPr/>
          </p:nvSpPr>
          <p:spPr>
            <a:xfrm>
              <a:off x="4400640" y="3335400"/>
              <a:ext cx="622080" cy="43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85520" y="3343320"/>
              <a:ext cx="67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1.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555960" y="196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55960" y="289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55960" y="3370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55600" y="24242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726080" y="4141800"/>
            <a:ext cx="1826280" cy="520560"/>
            <a:chOff x="4726080" y="4141800"/>
            <a:chExt cx="1826280" cy="520560"/>
          </a:xfrm>
        </p:grpSpPr>
        <p:grpSp>
          <p:nvGrpSpPr>
            <p:cNvPr id="358" name=""/>
            <p:cNvGrpSpPr/>
            <p:nvPr/>
          </p:nvGrpSpPr>
          <p:grpSpPr>
            <a:xfrm>
              <a:off x="4726080" y="4202280"/>
              <a:ext cx="1826280" cy="438480"/>
              <a:chOff x="4726080" y="4202280"/>
              <a:chExt cx="1826280" cy="438480"/>
            </a:xfrm>
          </p:grpSpPr>
          <p:sp>
            <p:nvSpPr>
              <p:cNvPr id="359" name=""/>
              <p:cNvSpPr/>
              <p:nvPr/>
            </p:nvSpPr>
            <p:spPr>
              <a:xfrm>
                <a:off x="4726080" y="4229280"/>
                <a:ext cx="83808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3bb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61360" y="4211640"/>
                <a:ext cx="811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25.20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96080" y="4232160"/>
                <a:ext cx="622080" cy="373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80960" y="4202280"/>
                <a:ext cx="671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1.20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5556240" y="4141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83080" y="4160880"/>
            <a:ext cx="1141560" cy="472320"/>
            <a:chOff x="3583080" y="4160880"/>
            <a:chExt cx="1141560" cy="472320"/>
          </a:xfrm>
        </p:grpSpPr>
        <p:grpSp>
          <p:nvGrpSpPr>
            <p:cNvPr id="365" name=""/>
            <p:cNvGrpSpPr/>
            <p:nvPr/>
          </p:nvGrpSpPr>
          <p:grpSpPr>
            <a:xfrm>
              <a:off x="3583080" y="4199040"/>
              <a:ext cx="355680" cy="429120"/>
              <a:chOff x="3583080" y="4199040"/>
              <a:chExt cx="355680" cy="429120"/>
            </a:xfrm>
          </p:grpSpPr>
          <p:sp>
            <p:nvSpPr>
              <p:cNvPr id="366" name=""/>
              <p:cNvSpPr/>
              <p:nvPr/>
            </p:nvSpPr>
            <p:spPr>
              <a:xfrm>
                <a:off x="3583080" y="4216320"/>
                <a:ext cx="355680" cy="355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06840" y="419904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4371840" y="417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4720" y="4216320"/>
              <a:ext cx="34308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25880" y="41608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939840" y="4714920"/>
            <a:ext cx="46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63920" y="4691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61360" y="4714920"/>
            <a:ext cx="81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4.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84560" y="5084640"/>
            <a:ext cx="31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6392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62080" y="51084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901880" y="5608800"/>
            <a:ext cx="6689880" cy="749160"/>
            <a:chOff x="1901880" y="5608800"/>
            <a:chExt cx="6689880" cy="749160"/>
          </a:xfrm>
        </p:grpSpPr>
        <p:sp>
          <p:nvSpPr>
            <p:cNvPr id="378" name=""/>
            <p:cNvSpPr/>
            <p:nvPr/>
          </p:nvSpPr>
          <p:spPr>
            <a:xfrm>
              <a:off x="4213080" y="5608800"/>
              <a:ext cx="938520" cy="749160"/>
            </a:xfrm>
            <a:prstGeom prst="irregularSeal1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1880" y="5734080"/>
              <a:ext cx="66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ur group ordered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lates of food costing $24.0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258840" y="762120"/>
            <a:ext cx="1371600" cy="93636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149400" y="704880"/>
            <a:ext cx="1562040" cy="1998720"/>
            <a:chOff x="149400" y="704880"/>
            <a:chExt cx="1562040" cy="1998720"/>
          </a:xfrm>
        </p:grpSpPr>
        <p:sp>
          <p:nvSpPr>
            <p:cNvPr id="382" name=""/>
            <p:cNvSpPr/>
            <p:nvPr/>
          </p:nvSpPr>
          <p:spPr>
            <a:xfrm>
              <a:off x="149400" y="704880"/>
              <a:ext cx="1562040" cy="19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4"/>
            <a:stretch/>
          </p:blipFill>
          <p:spPr>
            <a:xfrm>
              <a:off x="258840" y="1660680"/>
              <a:ext cx="1371600" cy="93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149400" y="1584360"/>
            <a:ext cx="1562040" cy="3333600"/>
            <a:chOff x="149400" y="1584360"/>
            <a:chExt cx="1562040" cy="3333600"/>
          </a:xfrm>
        </p:grpSpPr>
        <p:sp>
          <p:nvSpPr>
            <p:cNvPr id="385" name=""/>
            <p:cNvSpPr/>
            <p:nvPr/>
          </p:nvSpPr>
          <p:spPr>
            <a:xfrm>
              <a:off x="149400" y="1584360"/>
              <a:ext cx="1562040" cy="333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5"/>
            <a:stretch/>
          </p:blipFill>
          <p:spPr>
            <a:xfrm>
              <a:off x="258840" y="3875040"/>
              <a:ext cx="1371600" cy="93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"/>
          <p:cNvGrpSpPr/>
          <p:nvPr/>
        </p:nvGrpSpPr>
        <p:grpSpPr>
          <a:xfrm>
            <a:off x="1577880" y="2349360"/>
            <a:ext cx="1546200" cy="2447640"/>
            <a:chOff x="1577880" y="2349360"/>
            <a:chExt cx="1546200" cy="2447640"/>
          </a:xfrm>
        </p:grpSpPr>
        <p:sp>
          <p:nvSpPr>
            <p:cNvPr id="388" name=""/>
            <p:cNvSpPr/>
            <p:nvPr/>
          </p:nvSpPr>
          <p:spPr>
            <a:xfrm>
              <a:off x="1577880" y="4124160"/>
              <a:ext cx="1546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GEBRAIC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D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1517040" y="3117600"/>
              <a:ext cx="1765440" cy="228600"/>
            </a:xfrm>
            <a:prstGeom prst="rightArrow">
              <a:avLst>
                <a:gd name="adj1" fmla="val 26389"/>
                <a:gd name="adj2" fmla="val 576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587600" y="838080"/>
            <a:ext cx="72532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87600" y="838080"/>
            <a:ext cx="7253280" cy="38124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16200" y="83808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BLEM SOLVING PLAN USING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52280" y="196920"/>
            <a:ext cx="4507560" cy="460440"/>
            <a:chOff x="152280" y="196920"/>
            <a:chExt cx="4507560" cy="460440"/>
          </a:xfrm>
        </p:grpSpPr>
        <p:sp>
          <p:nvSpPr>
            <p:cNvPr id="395" name=""/>
            <p:cNvSpPr/>
            <p:nvPr/>
          </p:nvSpPr>
          <p:spPr>
            <a:xfrm>
              <a:off x="1528560" y="239760"/>
              <a:ext cx="31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Algebraic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>
            <a:off x="1582560" y="608040"/>
            <a:ext cx="72565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87800" y="1371600"/>
            <a:ext cx="548640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yourself what you need to know to solve the problem. Then write a verbal model that will give you what you need to k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87800" y="2651040"/>
            <a:ext cx="54990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labels to each part of your verbal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89240" y="3274920"/>
            <a:ext cx="548640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labels to write an algebraic model based on your verbal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89240" y="4251240"/>
            <a:ext cx="548640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the algebraic model and answer the original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56880" y="1428840"/>
            <a:ext cx="1148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BA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89240" y="1370160"/>
            <a:ext cx="548640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yourself what you need to know to solve the problem. Then write a verbal model that will give you what you need to k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89240" y="2649600"/>
            <a:ext cx="54990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labels to each part of your verbal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89240" y="3273480"/>
            <a:ext cx="5486400" cy="752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labels to write an algebraic model based on your verbal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89240" y="4249800"/>
            <a:ext cx="54864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the algebraic model and answer the original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89240" y="5227560"/>
            <a:ext cx="54864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that your answer is reason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658880" y="2851200"/>
            <a:ext cx="1546200" cy="1085400"/>
            <a:chOff x="1658880" y="2851200"/>
            <a:chExt cx="1546200" cy="1085400"/>
          </a:xfrm>
        </p:grpSpPr>
        <p:sp>
          <p:nvSpPr>
            <p:cNvPr id="409" name=""/>
            <p:cNvSpPr/>
            <p:nvPr/>
          </p:nvSpPr>
          <p:spPr>
            <a:xfrm>
              <a:off x="1658880" y="3263760"/>
              <a:ext cx="1546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GEBRAIC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D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400000">
              <a:off x="2129040" y="2988360"/>
              <a:ext cx="457200" cy="182520"/>
            </a:xfrm>
            <a:prstGeom prst="rightArrow">
              <a:avLst>
                <a:gd name="adj1" fmla="val 28704"/>
                <a:gd name="adj2" fmla="val 6959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905840" y="1943280"/>
            <a:ext cx="1064880" cy="1107360"/>
            <a:chOff x="1905840" y="1943280"/>
            <a:chExt cx="1064880" cy="1107360"/>
          </a:xfrm>
        </p:grpSpPr>
        <p:sp>
          <p:nvSpPr>
            <p:cNvPr id="412" name=""/>
            <p:cNvSpPr/>
            <p:nvPr/>
          </p:nvSpPr>
          <p:spPr>
            <a:xfrm rot="5400000">
              <a:off x="1989720" y="2212200"/>
              <a:ext cx="723960" cy="185760"/>
            </a:xfrm>
            <a:prstGeom prst="rightArrow">
              <a:avLst>
                <a:gd name="adj1" fmla="val 33037"/>
                <a:gd name="adj2" fmla="val 662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5840" y="2667240"/>
              <a:ext cx="1064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BE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957680" y="3860640"/>
            <a:ext cx="990000" cy="770760"/>
            <a:chOff x="1957680" y="3860640"/>
            <a:chExt cx="990000" cy="770760"/>
          </a:xfrm>
        </p:grpSpPr>
        <p:sp>
          <p:nvSpPr>
            <p:cNvPr id="415" name=""/>
            <p:cNvSpPr/>
            <p:nvPr/>
          </p:nvSpPr>
          <p:spPr>
            <a:xfrm>
              <a:off x="1957680" y="4248000"/>
              <a:ext cx="990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LVE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135520" y="3998160"/>
              <a:ext cx="457200" cy="182160"/>
            </a:xfrm>
            <a:prstGeom prst="rightArrow">
              <a:avLst>
                <a:gd name="adj1" fmla="val 28704"/>
                <a:gd name="adj2" fmla="val 69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935360" y="4578480"/>
            <a:ext cx="1029600" cy="1043640"/>
            <a:chOff x="1935360" y="4578480"/>
            <a:chExt cx="1029600" cy="1043640"/>
          </a:xfrm>
        </p:grpSpPr>
        <p:sp>
          <p:nvSpPr>
            <p:cNvPr id="418" name=""/>
            <p:cNvSpPr/>
            <p:nvPr/>
          </p:nvSpPr>
          <p:spPr>
            <a:xfrm>
              <a:off x="1935360" y="5238720"/>
              <a:ext cx="102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HECK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5400000">
              <a:off x="2017080" y="4847400"/>
              <a:ext cx="723600" cy="185760"/>
            </a:xfrm>
            <a:prstGeom prst="rightArrow">
              <a:avLst>
                <a:gd name="adj1" fmla="val 33037"/>
                <a:gd name="adj2" fmla="val 6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875120" y="2982960"/>
            <a:ext cx="3961080" cy="1371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99160" y="2895480"/>
            <a:ext cx="4113000" cy="15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77800" y="2367000"/>
            <a:ext cx="734868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11200" y="2290680"/>
            <a:ext cx="7467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81040" y="728640"/>
            <a:ext cx="7346880" cy="1633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00040" y="685800"/>
            <a:ext cx="74995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52280" y="196920"/>
            <a:ext cx="3871440" cy="460440"/>
            <a:chOff x="152280" y="196920"/>
            <a:chExt cx="3871440" cy="460440"/>
          </a:xfrm>
        </p:grpSpPr>
        <p:sp>
          <p:nvSpPr>
            <p:cNvPr id="428" name=""/>
            <p:cNvSpPr/>
            <p:nvPr/>
          </p:nvSpPr>
          <p:spPr>
            <a:xfrm>
              <a:off x="1529640" y="239760"/>
              <a:ext cx="249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a Verbal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>
            <a:off x="1582560" y="608040"/>
            <a:ext cx="733284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54120" y="804960"/>
            <a:ext cx="699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bb7e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03bb7e"/>
                </a:solidFill>
                <a:latin typeface="Arial"/>
              </a:rPr>
              <a:t>ET </a:t>
            </a:r>
            <a:r>
              <a:rPr b="1" lang="en-US" sz="1800" spc="-1" strike="noStrike">
                <a:solidFill>
                  <a:srgbClr val="03bb7e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3bb7e"/>
                </a:solidFill>
                <a:latin typeface="Arial"/>
              </a:rPr>
              <a:t>I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jet pilot is flying from Los Angeles, CA to Chicago, IL at a speed of  500 miles per hour. When the plane is 600 miles from Chicago, an air traffic controller tells the pilot that it will be 2 hours before the plane can get clearance to land. The pilot knows the speed of the jet must be greater then 322 miles per hour or the jet could sta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56280" y="2344680"/>
            <a:ext cx="71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what speed would the jet have to fly to arrive in Chicago in 2 hour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22960" y="3084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reasonable for the pilot to fly directly to Chicago at the reduced speed from part (a) or must the pilot take some other action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86720" y="300672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rcRect l="3213" t="14630" r="0" b="0"/>
          <a:stretch/>
        </p:blipFill>
        <p:spPr>
          <a:xfrm>
            <a:off x="228600" y="2971800"/>
            <a:ext cx="4403880" cy="26668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6508800" y="4506840"/>
            <a:ext cx="14191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494240" y="5025960"/>
            <a:ext cx="938160" cy="749520"/>
          </a:xfrm>
          <a:prstGeom prst="irregularSeal1">
            <a:avLst/>
          </a:prstGeom>
          <a:gradFill rotWithShape="0">
            <a:gsLst>
              <a:gs pos="0">
                <a:srgbClr val="ffff99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39" name=""/>
          <p:cNvGrpSpPr/>
          <p:nvPr/>
        </p:nvGrpSpPr>
        <p:grpSpPr>
          <a:xfrm>
            <a:off x="1860120" y="2286000"/>
            <a:ext cx="1064880" cy="1022760"/>
            <a:chOff x="1860120" y="2286000"/>
            <a:chExt cx="1064880" cy="1022760"/>
          </a:xfrm>
        </p:grpSpPr>
        <p:sp>
          <p:nvSpPr>
            <p:cNvPr id="440" name=""/>
            <p:cNvSpPr/>
            <p:nvPr/>
          </p:nvSpPr>
          <p:spPr>
            <a:xfrm rot="5400000">
              <a:off x="2088720" y="2482560"/>
              <a:ext cx="622080" cy="228600"/>
            </a:xfrm>
            <a:prstGeom prst="rightArrow">
              <a:avLst>
                <a:gd name="adj1" fmla="val 33037"/>
                <a:gd name="adj2" fmla="val 4622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60120" y="2925360"/>
              <a:ext cx="1064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BE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811160" y="1981080"/>
            <a:ext cx="1148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BA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52280" y="196920"/>
            <a:ext cx="3871440" cy="460440"/>
            <a:chOff x="152280" y="196920"/>
            <a:chExt cx="3871440" cy="460440"/>
          </a:xfrm>
        </p:grpSpPr>
        <p:sp>
          <p:nvSpPr>
            <p:cNvPr id="444" name=""/>
            <p:cNvSpPr/>
            <p:nvPr/>
          </p:nvSpPr>
          <p:spPr>
            <a:xfrm>
              <a:off x="1529640" y="239760"/>
              <a:ext cx="249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a Verbal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" descr="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"/>
          <p:cNvSpPr/>
          <p:nvPr/>
        </p:nvSpPr>
        <p:spPr>
          <a:xfrm>
            <a:off x="1582560" y="608040"/>
            <a:ext cx="733284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411000" y="1947960"/>
            <a:ext cx="1146960" cy="576000"/>
            <a:chOff x="3411000" y="1947960"/>
            <a:chExt cx="1146960" cy="576000"/>
          </a:xfrm>
        </p:grpSpPr>
        <p:sp>
          <p:nvSpPr>
            <p:cNvPr id="448" name=""/>
            <p:cNvSpPr/>
            <p:nvPr/>
          </p:nvSpPr>
          <p:spPr>
            <a:xfrm>
              <a:off x="3443400" y="1947960"/>
              <a:ext cx="106668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11000" y="1990800"/>
              <a:ext cx="1146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eed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562280" y="2035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800600" y="2066760"/>
            <a:ext cx="1143000" cy="478080"/>
            <a:chOff x="4800600" y="2066760"/>
            <a:chExt cx="1143000" cy="478080"/>
          </a:xfrm>
        </p:grpSpPr>
        <p:sp>
          <p:nvSpPr>
            <p:cNvPr id="452" name=""/>
            <p:cNvSpPr/>
            <p:nvPr/>
          </p:nvSpPr>
          <p:spPr>
            <a:xfrm>
              <a:off x="4881240" y="2066760"/>
              <a:ext cx="970200" cy="478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00600" y="2115000"/>
              <a:ext cx="1143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944680" y="203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0160" y="1959120"/>
            <a:ext cx="1476000" cy="58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Distanc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ra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41600" y="2895480"/>
            <a:ext cx="181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 of jet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308560" y="2884320"/>
            <a:ext cx="355680" cy="429120"/>
            <a:chOff x="5308560" y="2884320"/>
            <a:chExt cx="355680" cy="429120"/>
          </a:xfrm>
        </p:grpSpPr>
        <p:sp>
          <p:nvSpPr>
            <p:cNvPr id="458" name=""/>
            <p:cNvSpPr/>
            <p:nvPr/>
          </p:nvSpPr>
          <p:spPr>
            <a:xfrm>
              <a:off x="5308560" y="2901960"/>
              <a:ext cx="355680" cy="35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32320" y="28843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3457080" y="3386160"/>
            <a:ext cx="106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e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560840" y="3354480"/>
            <a:ext cx="344160" cy="459720"/>
            <a:chOff x="4560840" y="3354480"/>
            <a:chExt cx="344160" cy="459720"/>
          </a:xfrm>
        </p:grpSpPr>
        <p:sp>
          <p:nvSpPr>
            <p:cNvPr id="462" name=""/>
            <p:cNvSpPr/>
            <p:nvPr/>
          </p:nvSpPr>
          <p:spPr>
            <a:xfrm>
              <a:off x="4560840" y="3389400"/>
              <a:ext cx="34308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72000" y="335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460680" y="3863880"/>
            <a:ext cx="29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to travel =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846040" y="3868560"/>
            <a:ext cx="637200" cy="437040"/>
            <a:chOff x="5846040" y="3868560"/>
            <a:chExt cx="637200" cy="437040"/>
          </a:xfrm>
        </p:grpSpPr>
        <p:sp>
          <p:nvSpPr>
            <p:cNvPr id="466" name=""/>
            <p:cNvSpPr/>
            <p:nvPr/>
          </p:nvSpPr>
          <p:spPr>
            <a:xfrm>
              <a:off x="5861160" y="3868560"/>
              <a:ext cx="622080" cy="43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46040" y="3876480"/>
              <a:ext cx="601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556320" y="29354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les per ho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555600" y="39038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55600" y="33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u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592160" y="4583160"/>
            <a:ext cx="637200" cy="429120"/>
            <a:chOff x="4592160" y="4583160"/>
            <a:chExt cx="637200" cy="429120"/>
          </a:xfrm>
        </p:grpSpPr>
        <p:sp>
          <p:nvSpPr>
            <p:cNvPr id="472" name=""/>
            <p:cNvSpPr/>
            <p:nvPr/>
          </p:nvSpPr>
          <p:spPr>
            <a:xfrm>
              <a:off x="4606920" y="4613400"/>
              <a:ext cx="622440" cy="372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92160" y="4583160"/>
              <a:ext cx="601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238280" y="4554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1360" y="5181480"/>
            <a:ext cx="31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3036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27440" y="5181480"/>
            <a:ext cx="60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577880" y="3352680"/>
            <a:ext cx="1546200" cy="1815840"/>
            <a:chOff x="1577880" y="3352680"/>
            <a:chExt cx="1546200" cy="1815840"/>
          </a:xfrm>
        </p:grpSpPr>
        <p:sp>
          <p:nvSpPr>
            <p:cNvPr id="479" name=""/>
            <p:cNvSpPr/>
            <p:nvPr/>
          </p:nvSpPr>
          <p:spPr>
            <a:xfrm>
              <a:off x="1577880" y="4495680"/>
              <a:ext cx="1546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GEBRAIC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D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5400000">
              <a:off x="1833120" y="3805200"/>
              <a:ext cx="1133640" cy="228600"/>
            </a:xfrm>
            <a:prstGeom prst="rightArrow">
              <a:avLst>
                <a:gd name="adj1" fmla="val 25000"/>
                <a:gd name="adj2" fmla="val 618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537200" y="762120"/>
            <a:ext cx="70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what speed would the jet have to fly to arrive in Chicago in 2 hou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506760" y="4572000"/>
            <a:ext cx="343800" cy="459720"/>
            <a:chOff x="3506760" y="4572000"/>
            <a:chExt cx="343800" cy="459720"/>
          </a:xfrm>
        </p:grpSpPr>
        <p:sp>
          <p:nvSpPr>
            <p:cNvPr id="483" name=""/>
            <p:cNvSpPr/>
            <p:nvPr/>
          </p:nvSpPr>
          <p:spPr>
            <a:xfrm>
              <a:off x="3506760" y="4606920"/>
              <a:ext cx="34272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17560" y="457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854520" y="4572000"/>
            <a:ext cx="355680" cy="442800"/>
            <a:chOff x="3854520" y="4572000"/>
            <a:chExt cx="355680" cy="442800"/>
          </a:xfrm>
        </p:grpSpPr>
        <p:sp>
          <p:nvSpPr>
            <p:cNvPr id="486" name=""/>
            <p:cNvSpPr/>
            <p:nvPr/>
          </p:nvSpPr>
          <p:spPr>
            <a:xfrm>
              <a:off x="3854520" y="4603680"/>
              <a:ext cx="355680" cy="41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76840" y="4572000"/>
              <a:ext cx="32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77400" y="127332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85680" y="5584680"/>
            <a:ext cx="8896320" cy="749520"/>
            <a:chOff x="85680" y="5584680"/>
            <a:chExt cx="8896320" cy="749520"/>
          </a:xfrm>
        </p:grpSpPr>
        <p:sp>
          <p:nvSpPr>
            <p:cNvPr id="490" name=""/>
            <p:cNvSpPr/>
            <p:nvPr/>
          </p:nvSpPr>
          <p:spPr>
            <a:xfrm>
              <a:off x="6381720" y="5584680"/>
              <a:ext cx="938160" cy="749520"/>
            </a:xfrm>
            <a:prstGeom prst="irregularSeal1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5680" y="5692680"/>
              <a:ext cx="88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rrive in 2 hours, the pilot would have to slow the jet down t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les per hou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176040" y="1803240"/>
            <a:ext cx="1371600" cy="93672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66600" y="1689120"/>
            <a:ext cx="1562040" cy="1998720"/>
            <a:chOff x="66600" y="1689120"/>
            <a:chExt cx="1562040" cy="1998720"/>
          </a:xfrm>
        </p:grpSpPr>
        <p:sp>
          <p:nvSpPr>
            <p:cNvPr id="494" name=""/>
            <p:cNvSpPr/>
            <p:nvPr/>
          </p:nvSpPr>
          <p:spPr>
            <a:xfrm>
              <a:off x="66600" y="1689120"/>
              <a:ext cx="1562040" cy="19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5" name="" descr=""/>
            <p:cNvPicPr/>
            <p:nvPr/>
          </p:nvPicPr>
          <p:blipFill>
            <a:blip r:embed="rId4"/>
            <a:stretch/>
          </p:blipFill>
          <p:spPr>
            <a:xfrm>
              <a:off x="176040" y="2644920"/>
              <a:ext cx="1371600" cy="93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"/>
          <p:cNvGrpSpPr/>
          <p:nvPr/>
        </p:nvGrpSpPr>
        <p:grpSpPr>
          <a:xfrm>
            <a:off x="1546200" y="1262160"/>
            <a:ext cx="7010280" cy="457200"/>
            <a:chOff x="1546200" y="1262160"/>
            <a:chExt cx="7010280" cy="457200"/>
          </a:xfrm>
        </p:grpSpPr>
        <p:sp>
          <p:nvSpPr>
            <p:cNvPr id="497" name=""/>
            <p:cNvSpPr/>
            <p:nvPr/>
          </p:nvSpPr>
          <p:spPr>
            <a:xfrm>
              <a:off x="1546200" y="1262160"/>
              <a:ext cx="701028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46200" y="1295280"/>
              <a:ext cx="6923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ou can use the formula (rate)(time) = (distance) to write a verbal mode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6600" y="1941480"/>
            <a:ext cx="1562040" cy="3333600"/>
            <a:chOff x="66600" y="1941480"/>
            <a:chExt cx="1562040" cy="3333600"/>
          </a:xfrm>
        </p:grpSpPr>
        <p:sp>
          <p:nvSpPr>
            <p:cNvPr id="500" name=""/>
            <p:cNvSpPr/>
            <p:nvPr/>
          </p:nvSpPr>
          <p:spPr>
            <a:xfrm>
              <a:off x="66600" y="1941480"/>
              <a:ext cx="1562040" cy="333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1" name="" descr=""/>
            <p:cNvPicPr/>
            <p:nvPr/>
          </p:nvPicPr>
          <p:blipFill>
            <a:blip r:embed="rId5"/>
            <a:stretch/>
          </p:blipFill>
          <p:spPr>
            <a:xfrm>
              <a:off x="176040" y="4232160"/>
              <a:ext cx="13716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4:33:19Z</dcterms:created>
  <dc:creator>McDougal Littell</dc:creator>
  <dc:description/>
  <dc:language>en-US</dc:language>
  <cp:lastModifiedBy>y2k2pc</cp:lastModifiedBy>
  <dcterms:modified xsi:type="dcterms:W3CDTF">2000-04-03T19:07:37Z</dcterms:modified>
  <cp:revision>138</cp:revision>
  <dc:subject/>
  <dc:title>No Slide Title</dc:title>
</cp:coreProperties>
</file>